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F6D-0A9A-4E85-91B2-2F6A0E03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D3F-8D0A-4969-8E63-EC42F665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95D-B5AD-4CD4-970A-6E3F0FB5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97E-86AD-4B4E-BABA-61B1C59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A633-E1E6-4DB8-A623-FBE4531B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C259-DB4D-4EC9-827B-F2BF36D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B817-D14A-4CDB-A14F-06CED28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CDDE-175D-4ECE-912D-D454DE8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35DA-A959-4C29-AF2F-4470DC2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FCB-3039-4EC5-A58D-764AB8B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1410-E06B-47F4-BCE8-8B3627F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9FD-B12C-40D5-81A8-D687BD6E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42B0-AF68-4435-92EA-87114C2C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EB50-476A-455F-A6AB-75D4198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1A90-A223-497B-8882-A885A52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C3E-8EA7-457F-A7ED-417F1733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00A5-E521-459F-A2A9-BE55D802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FF7-7793-48D5-AA7C-C545FACD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58E-8997-48BB-8534-54DD01D6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CEC-21C8-4859-9827-1B56B64F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78D-21AE-4BF9-BB7A-DA2213EB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B7E-0E61-4001-8330-3DC65B00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B98-C39F-41A3-83FC-A3CD2D6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5EE-084E-46E2-8492-108F918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B5E8-0910-4178-901A-8D5A18E2F2A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6AF-87B2-41FC-957F-5E5FEEDA9BB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PROGRAMME DE V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alizado por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Clara M. Carmona Castro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Cristina Quirós Villalba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Victoria González Roldá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Samedi,8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connaisserons notres “corres” et nous le prèsenterons a notre fam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uis, nous ferons une route touristique à Estepa en vo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chez nous pour dor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9600" y="2062080"/>
            <a:ext cx="3854520" cy="29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imanche,9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ur le matin, nous irons à “Roya” pour manger toute l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irons au “Cerro de San Cristóbal” et nous verrons les monuments d’Estep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23840" y="3940200"/>
            <a:ext cx="290376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Lundi,10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9ront au lycée “Aguilar y Can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mangerons avec les “corr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44960" y="2076480"/>
            <a:ext cx="3640320" cy="27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Mardi,11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à Cord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n Cordue ils verront “La Mezquita”, “El Alcázar”, “La Sinagoga”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10280" y="1454040"/>
            <a:ext cx="3106800" cy="2332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1082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Mercredi,12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irons à Grenade avec les “corres” et nous allerons au “Parque de las Ciencias” et à “La Alhambr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2397240" cy="2397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33684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3040" y="286920"/>
            <a:ext cx="80755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Jeudi,13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à Séville pour voir “La Giralda”, “La Torre del Oro” et le fleuve “Guadalquivi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ls se promèneront pour ses rues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143352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19248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Vendredi,14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iront a notre entraînement de bas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sortirons avec notres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19160" y="1392120"/>
            <a:ext cx="3192480" cy="239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3983040"/>
            <a:ext cx="403848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Samedi,15 m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us irons à Antequera au centre commercial “La Verónica” pour acheter des vê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es “corres” partiront à L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1581120" cy="251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41776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26:06Z</dcterms:created>
  <dc:creator>Melchor</dc:creator>
  <dc:description/>
  <dc:language>en-US</dc:language>
  <cp:lastModifiedBy>Juan</cp:lastModifiedBy>
  <dcterms:modified xsi:type="dcterms:W3CDTF">2009-11-26T15:10:51Z</dcterms:modified>
  <cp:revision>3</cp:revision>
  <dc:subject/>
  <dc:title>Diapositiva 1</dc:title>
</cp:coreProperties>
</file>